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1F3-447B-49BD-BA73-4FE7E222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CDA-7716-48A6-9390-12A71C0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D39-608F-4DE6-A181-04A19996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3B1-5376-4C5C-8AD6-C8893260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F8226-5F13-407D-9CE8-E5DD1680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C1F7A-DE50-47B4-B163-1B742FE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B5300-7827-44FD-B251-A2DBF36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A3029-0262-41D0-98D6-0227AB1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1DEA1-7FF9-4DA0-9EBF-AC9ED8B5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70589-4685-4C9C-B022-8FE89B9C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6B3E0-6D37-4CCA-9F24-391EB94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C61-FC12-4320-B148-00638FA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41284-83B8-4EC2-9754-0BE9F30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E1E29-A206-44A3-A061-3497B650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1CCD-B309-4C2C-A110-AFF0029A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C1E6A-7448-41A6-B44D-5F958DB0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78E9C-B923-4180-ABE4-D8034BF3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D916-6948-4D30-A198-6E068086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7AD6-D5ED-46E1-9AA7-7E2DAB31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1063-34B1-46C9-8066-01DD94A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8779-BFBA-45D8-8CE9-3845E2F6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6B48-8ECC-4452-9AA6-734F4FB2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735-FE21-4849-A6A7-DEC3440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95AC-0920-45B1-8E69-F52C9240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0E56-AAC7-47A1-B6B7-A00C308E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962B-E141-4FBF-9CEA-F6D9E94D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15F3-C224-475B-9410-545295A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7089-BDEB-44A2-9023-7F3D9E8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4F81-2849-4076-9B2D-2614E31F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0630-EC77-406F-9505-97C00CF3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F1C-4115-45BD-A5F7-B1C519F6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C6F-2E87-4F53-A3AF-2574140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890-D8DA-402A-A939-01CD6E80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0F6-9AC4-4D0A-ACD4-9AFEF8F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E7D-67B9-4289-8643-DB6F5AC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AF4-33CE-40FB-8F45-C31759E8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4655-74FA-4101-BEBD-0ED747A66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227B-FFB3-4A6D-84EF-3BC3AE9F0F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0172-7A6C-4F5A-B4A8-88508843CD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entury Gothic"/>
              </a:rPr>
              <a:t> 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4211640"/>
            <a:ext cx="640080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WordArt 11"/>
          <p:cNvSpPr txBox="1"/>
          <p:nvPr/>
        </p:nvSpPr>
        <p:spPr>
          <a:xfrm>
            <a:off x="1447920" y="304920"/>
            <a:ext cx="66578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ersonal Narrative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6" name="WordArt 14"/>
          <p:cNvSpPr txBox="1"/>
          <p:nvPr/>
        </p:nvSpPr>
        <p:spPr>
          <a:xfrm>
            <a:off x="2362320" y="525780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Writing Your Story</a:t>
            </a:r>
            <a:endParaRPr b="0" lang="en-US" sz="60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619360" cy="27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clusion Paragraph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topic sentence for your concluding paragrap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ap up all loose ends so that the reader doesn’t have any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last sentence should conclude the narrative.  The reader knows that the story is o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11" descr="PE01718_[1]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your paper out l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yourself 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meone el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Did the introduction capture 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?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the events in a clear order? Did I use transition word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I have details that appeal to the five sens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conclusion a clear e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the st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I have at least five paragraph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1295280" y="228600"/>
            <a:ext cx="647712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vise and Edi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82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Now for the FUN Part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Go to http://www.storyjumper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Click on “Sign Up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Fill in all of the information and log 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Click on the “Create” orange dot on the top, left side of the scre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Click on the “Build a Book from Scratch” link about half way down the pa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Using Story Jump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Click on the slide that says “Book Cov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Give your book a Title- remember to capitalize the important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or the Attribution section, type by and your first and las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When you click on the dedication, dedicate the book to someone 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hen you’re ready for the actual text of your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ffff"/>
                </a:solidFill>
                <a:latin typeface="Tahoma"/>
              </a:rPr>
              <a:t>Using Story Jumper Cont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When you click on page 1 or any odd numbered page, you can only insert scenes, props, or load pictures. All of that is controlled on the left-hand 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Please pick pictures that help your reader understand your stor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ffff"/>
                </a:solidFill>
                <a:latin typeface="Tahoma"/>
              </a:rPr>
              <a:t>Using Story Jumper Cont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On your even numbered pages, you will place one paragraph on each pa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n order to do this, on the left-hand toolbar, click on tex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hen click, one of the option that it gives yo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You may then click on your page and type your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25a"/>
                </a:solidFill>
                <a:latin typeface="Tahoma"/>
              </a:rPr>
              <a:t>Have Fun Using Story Jumper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a68"/>
                </a:solidFill>
                <a:latin typeface="Tahoma"/>
              </a:rPr>
              <a:t>The more you play with it, the easier it becomes. Just remember to SAVE AS YOU GO so you don’t lose your wor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Is an interesting story about the wri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It can be true or made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Is written in the first person (using 1</a:t>
            </a:r>
            <a:r>
              <a:rPr b="0" lang="en-US" sz="3200" spc="-1" strike="noStrike" baseline="30000">
                <a:solidFill>
                  <a:srgbClr val="fdabf5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 person pronouns like I, me, and m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Has a beginning, a middle, and an 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Presents events in a clear, chronological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Uses details and descriptive words to help readers see people, places, and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143000" y="304920"/>
            <a:ext cx="74484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A Personal Narrative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Lucida Console"/>
              </a:rPr>
              <a:t>The personal narrative tells abou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good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bad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n importan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memorable 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firs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las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Or it can be a made up story with you i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466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ffffcc"/>
                </a:solidFill>
                <a:latin typeface="Rockwell"/>
              </a:rPr>
              <a:t>Sample Prompt: Pretend that your class was on a trip to the zoo and all of the animals got loose.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 few minutes and write without stopp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bout where the story takes place.  Close your eyes and recall the place in your narrative. What do you see? Hear? Taste? Smell? Fe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bout the people who will be in your narrative.  Think about the way each one looks, acts, and speaks. Conversation or dialogue is a good way to draw your readers into the 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 the main events of the narrative along a time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13352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WordArt 27"/>
          <p:cNvSpPr txBox="1"/>
          <p:nvPr/>
        </p:nvSpPr>
        <p:spPr>
          <a:xfrm>
            <a:off x="1828800" y="4724280"/>
            <a:ext cx="549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bs the reader's attention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28"/>
          <p:cNvSpPr txBox="1"/>
          <p:nvPr/>
        </p:nvSpPr>
        <p:spPr>
          <a:xfrm>
            <a:off x="1066680" y="5867280"/>
            <a:ext cx="7124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roduces the reader to the situation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29"/>
          <p:cNvSpPr txBox="1"/>
          <p:nvPr/>
        </p:nvSpPr>
        <p:spPr>
          <a:xfrm>
            <a:off x="1523880" y="380880"/>
            <a:ext cx="6315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d or Introduction</a:t>
            </a:r>
            <a:endParaRPr b="0" lang="en-US" sz="60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256068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ppeal to the reader’s senses by writing a vivid description of the sc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Make readers wonder by asking a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Lure readers into the story quickly by using dialog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057400" y="228600"/>
            <a:ext cx="5086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Ways to Start the Stor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427720" y="1371600"/>
            <a:ext cx="3144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upporting Paragraphs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ways begin with a topic sentence. Use specific details that support the topic sentence.  Use sensory words to keep the reader’s atten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ap up the paragraph with a concluding or transitioning sent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 to develop a minimum of  3 supporting paragraph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58164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Using transition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 Words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 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Helps to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 guide your readers through your story!!</a:t>
            </a:r>
            <a:r>
              <a:rPr b="0" lang="en-US" sz="3800" spc="-1" strike="noStrike">
                <a:solidFill>
                  <a:srgbClr val="ffffcc"/>
                </a:solidFill>
                <a:latin typeface="Lucida Console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a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 but not le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05520" y="2971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fo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cau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s a resul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sequent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380880" y="2133720"/>
            <a:ext cx="189576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ndara"/>
              </a:rPr>
              <a:t>Importanc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5105520" y="2057400"/>
            <a:ext cx="24289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ndara"/>
              </a:rPr>
              <a:t>Cause / Effect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9144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ar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ontr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other h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the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ame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383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h 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n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838080" y="380880"/>
            <a:ext cx="693432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More Transition Word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228600" y="1676520"/>
            <a:ext cx="4257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arison / Contras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5943600" y="1523880"/>
            <a:ext cx="21906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Example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7:27:41Z</dcterms:created>
  <dc:creator>swhite</dc:creator>
  <dc:description/>
  <dc:language>en-US</dc:language>
  <cp:lastModifiedBy>Courtney Fowler</cp:lastModifiedBy>
  <dcterms:modified xsi:type="dcterms:W3CDTF">2011-11-07T20:21:18Z</dcterms:modified>
  <cp:revision>6</cp:revision>
  <dc:subject/>
  <dc:title>Personal Narrative</dc:title>
</cp:coreProperties>
</file>